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2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DF7-BB64-494D-BABE-E043DA01F2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nnées de 2014 et taux croissant depuis (2015 supérieur à 20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F828-5574-4232-98D7-42591A7838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C: subtile, pas visible à l’œil nu mais retard de croissance avec défenses immunitaires fai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60A-89BB-46F0-8D2E-457BD360CB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2A8-C652-40DD-8449-B1E16008FA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F3E-A638-4930-AE6D-8E3B1BCA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282-3754-4060-8672-E523508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EC5-E87F-4954-AF99-409C92D6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86C-CCB6-40B3-9D4F-D80973FF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864-03AD-4EDF-ADFC-C9F11FA6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D4F40-2A7C-46A6-A7A6-53247921BE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BE195-550F-4BC6-8BD0-B3B6AE2DE2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DC8E0-3CE9-42A7-AAB0-E6ACAB5265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64E85-B9F5-4051-B6CF-BF9BFA812E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12578-E724-4979-88B3-7AE5EE627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283-9840-4720-BD8C-C1049B0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CC916-FF5C-4D48-9C58-4B66CDB3C4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0A702-BA0B-4165-A6B0-9DB9A45F41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B8B7E-B0BC-46B9-8772-67D9150AEF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2575-5DD1-4D5B-8F38-79F85B6172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D8D8-AC49-4C96-97B8-E3251EF2FB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8D62C-44DF-4E77-A304-7A84D2370B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578F0-DB2C-4D7E-BC23-36A1F489A6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9E6DF-B65D-4C63-A0AB-41A5C1FD58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BBCC9-6668-44DA-9B3A-CBCDA1A730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67BEE-44D1-498D-B2A6-614F1E58F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FAA-54AC-4B90-8E0D-2838634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2F961-1952-4F5F-A03D-3868B9C587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874B1-E271-4BB9-AED3-760E8CC5E5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6939A-E696-4B8C-B6B7-9FF87F2276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55AFA-AF2D-43C8-B577-519AE2A9DE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64943-2530-4038-AE43-EFECD94B29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09200-A27E-4FCC-833F-23C504EFCD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1D498-9C3A-4880-AE50-BAE65EBA48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60A9F-FDEE-4D2C-B85C-552D8C0D6E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9D595-A2BD-41C5-A431-1F263F60BE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A2FE-8B09-473E-B921-E5FE38886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459-5A08-43FC-8BAE-79437896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BAE9-BEF0-4909-8F50-C19F0751AC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2915-80D0-4B65-A3B7-018DFFE6A4D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1909-7256-4D6D-9E02-50F8B17942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F242-812D-47FF-A73C-93246151AE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0330-2F1E-4C35-8171-AB70140AF4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887A-5DBF-4489-A47C-321CB7F71C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0E57-88E9-4C06-879E-80E9141D9B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42F1-22F4-4AD8-BAF0-7FCF2884C5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F59D-5977-4610-93DC-98822BDAF4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BA56-1A3E-49A8-A08B-F08C6E69E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5C3-0970-488F-ABA7-DB6AE497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E84A-F1BE-4D78-85F2-3C43727497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C99-E862-49A1-9B76-0912B93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847-7A8C-415F-B519-DF45B3D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0E1-8863-4AA3-8AB4-FF7D0BD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8B4-7BB2-4C29-A74A-FCE4BF094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mappemonde-rouge-pale2.jpg"/>
          <p:cNvPicPr/>
          <p:nvPr/>
        </p:nvPicPr>
        <p:blipFill>
          <a:blip r:embed="rId2"/>
          <a:stretch/>
        </p:blipFill>
        <p:spPr>
          <a:xfrm>
            <a:off x="928800" y="0"/>
            <a:ext cx="3500280" cy="1935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7" descr="logo_Gret_vFr.jpg"/>
          <p:cNvPicPr/>
          <p:nvPr/>
        </p:nvPicPr>
        <p:blipFill>
          <a:blip r:embed="rId3"/>
          <a:stretch/>
        </p:blipFill>
        <p:spPr>
          <a:xfrm>
            <a:off x="0" y="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slogan-Gret-rouge.jpg"/>
          <p:cNvPicPr/>
          <p:nvPr/>
        </p:nvPicPr>
        <p:blipFill>
          <a:blip r:embed="rId4"/>
          <a:stretch/>
        </p:blipFill>
        <p:spPr>
          <a:xfrm>
            <a:off x="500040" y="6219720"/>
            <a:ext cx="8096400" cy="6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4572000" y="1429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Jeudi 31 mars - Ouagadoug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necteur droit 6"/>
          <p:cNvSpPr/>
          <p:nvPr/>
        </p:nvSpPr>
        <p:spPr>
          <a:xfrm flipH="1">
            <a:off x="571680" y="1571760"/>
            <a:ext cx="1440" cy="357120"/>
          </a:xfrm>
          <a:prstGeom prst="line">
            <a:avLst/>
          </a:prstGeom>
          <a:ln w="25560">
            <a:solidFill>
              <a:srgbClr val="c1afb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 7" descr="frise_photos1.jpg"/>
          <p:cNvPicPr/>
          <p:nvPr/>
        </p:nvPicPr>
        <p:blipFill>
          <a:blip r:embed="rId2"/>
          <a:stretch/>
        </p:blipFill>
        <p:spPr>
          <a:xfrm>
            <a:off x="0" y="1874880"/>
            <a:ext cx="735120" cy="4983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4"/>
          </p:nvPr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6442e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BCFB-C6F2-4BED-A3B2-BB9904D2C53E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713880" y="6500520"/>
            <a:ext cx="8215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b80a3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b80a39"/>
                </a:solidFill>
                <a:latin typeface="Arial Narrow"/>
              </a:rPr>
              <a:t>Pied d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714240" y="6840"/>
            <a:ext cx="8429760" cy="141300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Arial"/>
              </a:rPr>
              <a:t>Cliquez pour modifier le style du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7"/>
          <p:cNvSpPr/>
          <p:nvPr/>
        </p:nvSpPr>
        <p:spPr>
          <a:xfrm flipH="1">
            <a:off x="571680" y="1571760"/>
            <a:ext cx="1440" cy="357120"/>
          </a:xfrm>
          <a:prstGeom prst="line">
            <a:avLst/>
          </a:prstGeom>
          <a:ln w="25560">
            <a:solidFill>
              <a:srgbClr val="c1afb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8" descr="frise_photos1.jpg"/>
          <p:cNvPicPr/>
          <p:nvPr/>
        </p:nvPicPr>
        <p:blipFill>
          <a:blip r:embed="rId2"/>
          <a:stretch/>
        </p:blipFill>
        <p:spPr>
          <a:xfrm>
            <a:off x="0" y="1874880"/>
            <a:ext cx="735120" cy="4983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6"/>
          </p:nvPr>
        </p:nvSpPr>
        <p:spPr>
          <a:xfrm>
            <a:off x="713880" y="6500520"/>
            <a:ext cx="8215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b80a3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b80a39"/>
                </a:solidFill>
                <a:latin typeface="Arial Narrow"/>
              </a:rPr>
              <a:t>Pied d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7"/>
          </p:nvPr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6442e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79D7-A509-4EEA-86F1-FA6DDF302C0C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re 1"/>
          <p:cNvSpPr/>
          <p:nvPr/>
        </p:nvSpPr>
        <p:spPr>
          <a:xfrm>
            <a:off x="714240" y="6840"/>
            <a:ext cx="8429760" cy="141300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Arial"/>
              </a:rPr>
              <a:t>Cliquez pour modifier le style du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7"/>
          <p:cNvSpPr/>
          <p:nvPr/>
        </p:nvSpPr>
        <p:spPr>
          <a:xfrm flipH="1">
            <a:off x="571680" y="1571760"/>
            <a:ext cx="1440" cy="357120"/>
          </a:xfrm>
          <a:prstGeom prst="line">
            <a:avLst/>
          </a:prstGeom>
          <a:ln w="25560">
            <a:solidFill>
              <a:srgbClr val="c1afb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 8" descr="frise_photos1.jpg"/>
          <p:cNvPicPr/>
          <p:nvPr/>
        </p:nvPicPr>
        <p:blipFill>
          <a:blip r:embed="rId2"/>
          <a:stretch/>
        </p:blipFill>
        <p:spPr>
          <a:xfrm>
            <a:off x="0" y="1874880"/>
            <a:ext cx="735120" cy="4983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713880" y="6500520"/>
            <a:ext cx="8215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b80a3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b80a39"/>
                </a:solidFill>
                <a:latin typeface="Arial Narrow"/>
              </a:rPr>
              <a:t>Pied d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6442e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F751-6E68-4A86-8C9D-A4DA53991C16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 6" descr="mappemonde-rouge-pale2.jpg"/>
          <p:cNvPicPr/>
          <p:nvPr/>
        </p:nvPicPr>
        <p:blipFill>
          <a:blip r:embed="rId2"/>
          <a:stretch/>
        </p:blipFill>
        <p:spPr>
          <a:xfrm>
            <a:off x="357120" y="0"/>
            <a:ext cx="3500640" cy="193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4572000" y="1429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Date - L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mage 6" descr="mappemonde-rouge-pale2.jpg"/>
          <p:cNvPicPr/>
          <p:nvPr/>
        </p:nvPicPr>
        <p:blipFill>
          <a:blip r:embed="rId2"/>
          <a:stretch/>
        </p:blipFill>
        <p:spPr>
          <a:xfrm>
            <a:off x="357120" y="0"/>
            <a:ext cx="3500640" cy="1935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4572000" y="1429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Date - L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56800" y="2387520"/>
            <a:ext cx="7675560" cy="1470240"/>
          </a:xfrm>
          <a:prstGeom prst="rect">
            <a:avLst/>
          </a:prstGeom>
          <a:solidFill>
            <a:srgbClr val="afb782">
              <a:alpha val="8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80a39"/>
                </a:solidFill>
                <a:latin typeface="Arial"/>
              </a:rPr>
              <a:t>« WASH in Nut »</a:t>
            </a:r>
            <a:br>
              <a:rPr sz="4400"/>
            </a:br>
            <a:r>
              <a:rPr b="1" lang="fr-FR" sz="2400" spc="-1" strike="noStrike">
                <a:solidFill>
                  <a:srgbClr val="b80a39"/>
                </a:solidFill>
                <a:latin typeface="Arial"/>
              </a:rPr>
              <a:t>Intégrer WASH et Nutrition, pourquoi et comment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56800" y="4100040"/>
            <a:ext cx="7675560" cy="900360"/>
          </a:xfrm>
          <a:prstGeom prst="rect">
            <a:avLst/>
          </a:prstGeom>
          <a:solidFill>
            <a:srgbClr val="c1afb8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1332"/>
                </a:solidFill>
                <a:latin typeface="Arial"/>
                <a:ea typeface="Arial"/>
              </a:rPr>
              <a:t>Estelle JURE - Nutritionnis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1332"/>
                </a:solidFill>
                <a:latin typeface="Arial"/>
                <a:ea typeface="Arial"/>
              </a:rPr>
              <a:t>Intervention au Réseau Pro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61920"/>
            <a:ext cx="8429760" cy="130320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athologies liées à l’EHA ayant un fort impact sur l’état nutri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14240" y="157176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Diarrhées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très souvent d’origine fécales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forte déshydratation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malnutrition très rapide chez les enfants de moins de 5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Entéropathies environnementales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ar ingestion de selles animales (invasion à E.coli)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diarrhées chroniques ou aigues voire sanguinol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Parasitoses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imitent l’absorption des micro-nut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EB17-42EF-4B73-954F-ED86BC3E808A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Extrait de la boîte à images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Espace réservé du contenu 4" descr=""/>
          <p:cNvPicPr/>
          <p:nvPr/>
        </p:nvPicPr>
        <p:blipFill>
          <a:blip r:embed="rId1"/>
          <a:srcRect l="4824" t="0" r="16404" b="0"/>
          <a:stretch/>
        </p:blipFill>
        <p:spPr>
          <a:xfrm>
            <a:off x="1116000" y="4308480"/>
            <a:ext cx="3024360" cy="2160720"/>
          </a:xfrm>
          <a:prstGeom prst="rect">
            <a:avLst/>
          </a:prstGeom>
          <a:ln w="0">
            <a:noFill/>
          </a:ln>
        </p:spPr>
      </p:pic>
      <p:sp>
        <p:nvSpPr>
          <p:cNvPr id="348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125-83FA-4FC0-AD23-F6662F585A41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Image 5" descr=""/>
          <p:cNvPicPr/>
          <p:nvPr/>
        </p:nvPicPr>
        <p:blipFill>
          <a:blip r:embed="rId2"/>
          <a:srcRect l="3640" t="0" r="11144" b="0"/>
          <a:stretch/>
        </p:blipFill>
        <p:spPr>
          <a:xfrm>
            <a:off x="5313240" y="1517760"/>
            <a:ext cx="3286080" cy="2168280"/>
          </a:xfrm>
          <a:prstGeom prst="rect">
            <a:avLst/>
          </a:prstGeom>
          <a:ln w="0">
            <a:noFill/>
          </a:ln>
        </p:spPr>
      </p:pic>
      <p:pic>
        <p:nvPicPr>
          <p:cNvPr id="350" name="Image 6" descr=""/>
          <p:cNvPicPr/>
          <p:nvPr/>
        </p:nvPicPr>
        <p:blipFill>
          <a:blip r:embed="rId3"/>
          <a:srcRect l="3605" t="0" r="13502" b="0"/>
          <a:stretch/>
        </p:blipFill>
        <p:spPr>
          <a:xfrm>
            <a:off x="5288040" y="4221000"/>
            <a:ext cx="3311280" cy="2248200"/>
          </a:xfrm>
          <a:prstGeom prst="rect">
            <a:avLst/>
          </a:prstGeom>
          <a:ln w="0">
            <a:noFill/>
          </a:ln>
        </p:spPr>
      </p:pic>
      <p:pic>
        <p:nvPicPr>
          <p:cNvPr id="351" name="Image 7" descr=""/>
          <p:cNvPicPr/>
          <p:nvPr/>
        </p:nvPicPr>
        <p:blipFill>
          <a:blip r:embed="rId4"/>
          <a:srcRect l="6446" t="0" r="11220" b="0"/>
          <a:stretch/>
        </p:blipFill>
        <p:spPr>
          <a:xfrm>
            <a:off x="1060560" y="1517760"/>
            <a:ext cx="3101760" cy="2119320"/>
          </a:xfrm>
          <a:prstGeom prst="rect">
            <a:avLst/>
          </a:prstGeom>
          <a:ln w="0">
            <a:noFill/>
          </a:ln>
        </p:spPr>
      </p:pic>
      <p:sp>
        <p:nvSpPr>
          <p:cNvPr id="352" name="ZoneTexte 8"/>
          <p:cNvSpPr/>
          <p:nvPr/>
        </p:nvSpPr>
        <p:spPr>
          <a:xfrm>
            <a:off x="1060560" y="3670200"/>
            <a:ext cx="30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- Hygiène de l’eau et des al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9"/>
          <p:cNvSpPr/>
          <p:nvPr/>
        </p:nvSpPr>
        <p:spPr>
          <a:xfrm>
            <a:off x="5003640" y="367992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- Hygiène corporelle et vestim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0"/>
          <p:cNvSpPr/>
          <p:nvPr/>
        </p:nvSpPr>
        <p:spPr>
          <a:xfrm>
            <a:off x="1060560" y="643896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- Hygiène des 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1"/>
          <p:cNvSpPr/>
          <p:nvPr/>
        </p:nvSpPr>
        <p:spPr>
          <a:xfrm>
            <a:off x="5003640" y="6488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 - Hygiène du cadre de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Interventions WASH clés pour réduire le retard de cro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14240" y="157176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ssainissement amélioré : utilisation de toilettes et latr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vage des mains au sav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rrivée d’eau à la ma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vacuation hygiénique des selles des enf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Sources d’eau amélior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960-AC90-477F-BC1F-C7EC79D99650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Expériences WASH in 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14240" y="1122480"/>
            <a:ext cx="842976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Point d’approvisionnement d’eau améliorée à moins de 30min du domic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(accompagnée de promotion du transport et du stockage de l’eau à domicil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17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Lavage des mains aux points de contact cri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48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Utilisation d’installations d’assainissement amélioré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36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Raccordement d’eau canalisée dans la c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63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EC76-9AA3-48A5-9D5B-89449D9F7A3F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943760" y="2639880"/>
            <a:ext cx="12002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040-419A-4DFE-BF1D-7CACDA78E9DB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vale 4"/>
          <p:cNvGrpSpPr/>
          <p:nvPr/>
        </p:nvGrpSpPr>
        <p:grpSpPr>
          <a:xfrm>
            <a:off x="4645080" y="1279440"/>
            <a:ext cx="3419280" cy="2311560"/>
            <a:chOff x="4645080" y="1279440"/>
            <a:chExt cx="3419280" cy="2311560"/>
          </a:xfrm>
        </p:grpSpPr>
        <p:pic>
          <p:nvPicPr>
            <p:cNvPr id="365" name="Ovale 4" descr=""/>
            <p:cNvPicPr/>
            <p:nvPr/>
          </p:nvPicPr>
          <p:blipFill>
            <a:blip r:embed="rId1"/>
            <a:stretch/>
          </p:blipFill>
          <p:spPr>
            <a:xfrm>
              <a:off x="4645080" y="1279440"/>
              <a:ext cx="3419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153040" y="1627200"/>
              <a:ext cx="2403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Calibri"/>
                </a:rPr>
                <a:t>Sant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e 7"/>
          <p:cNvSpPr/>
          <p:nvPr/>
        </p:nvSpPr>
        <p:spPr>
          <a:xfrm>
            <a:off x="6019920" y="2971800"/>
            <a:ext cx="3124080" cy="2303640"/>
          </a:xfrm>
          <a:prstGeom prst="ellipse">
            <a:avLst/>
          </a:prstGeom>
          <a:gradFill rotWithShape="0">
            <a:gsLst>
              <a:gs pos="0">
                <a:srgbClr val="98baf6"/>
              </a:gs>
              <a:gs pos="100000">
                <a:srgbClr val="e0e9fb"/>
              </a:gs>
            </a:gsLst>
            <a:lin ang="10800000"/>
          </a:gra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Protection</a:t>
            </a:r>
            <a:br>
              <a:rPr sz="2400"/>
            </a:b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      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4098600" y="3624840"/>
            <a:ext cx="191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Retard de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e 5"/>
          <p:cNvSpPr/>
          <p:nvPr/>
        </p:nvSpPr>
        <p:spPr>
          <a:xfrm>
            <a:off x="2165400" y="1219320"/>
            <a:ext cx="3435480" cy="2438280"/>
          </a:xfrm>
          <a:prstGeom prst="ellipse">
            <a:avLst/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e 5"/>
          <p:cNvSpPr/>
          <p:nvPr/>
        </p:nvSpPr>
        <p:spPr>
          <a:xfrm>
            <a:off x="757080" y="2590920"/>
            <a:ext cx="3436920" cy="2438280"/>
          </a:xfrm>
          <a:prstGeom prst="ellipse">
            <a:avLst/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Eau, Hygiène et Assainis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e 6"/>
          <p:cNvSpPr/>
          <p:nvPr/>
        </p:nvSpPr>
        <p:spPr>
          <a:xfrm>
            <a:off x="1727280" y="4343400"/>
            <a:ext cx="3530520" cy="2478240"/>
          </a:xfrm>
          <a:prstGeom prst="ellipse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16200000"/>
          </a:gra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4a7b"/>
                </a:solidFill>
                <a:latin typeface="Calibri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e 7"/>
          <p:cNvSpPr/>
          <p:nvPr/>
        </p:nvSpPr>
        <p:spPr>
          <a:xfrm>
            <a:off x="4724280" y="4419720"/>
            <a:ext cx="3394080" cy="2420640"/>
          </a:xfrm>
          <a:prstGeom prst="ellipse">
            <a:avLst/>
          </a:prstGeom>
          <a:gradFill rotWithShape="0">
            <a:gsLst>
              <a:gs pos="0">
                <a:srgbClr val="c4bd97"/>
              </a:gs>
              <a:gs pos="100000">
                <a:srgbClr val="e0e9fb"/>
              </a:gs>
            </a:gsLst>
            <a:lin ang="10800000"/>
          </a:gra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2"/>
          <a:stretch/>
        </p:blipFill>
        <p:spPr>
          <a:xfrm>
            <a:off x="3236760" y="1420920"/>
            <a:ext cx="1106640" cy="788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"/>
          <p:cNvPicPr/>
          <p:nvPr/>
        </p:nvPicPr>
        <p:blipFill>
          <a:blip r:embed="rId3"/>
          <a:stretch/>
        </p:blipFill>
        <p:spPr>
          <a:xfrm>
            <a:off x="2684520" y="465444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"/>
          <p:cNvPicPr/>
          <p:nvPr/>
        </p:nvPicPr>
        <p:blipFill>
          <a:blip r:embed="rId4"/>
          <a:stretch/>
        </p:blipFill>
        <p:spPr>
          <a:xfrm>
            <a:off x="7039080" y="3146400"/>
            <a:ext cx="1023840" cy="693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2" descr=""/>
          <p:cNvPicPr/>
          <p:nvPr/>
        </p:nvPicPr>
        <p:blipFill>
          <a:blip r:embed="rId5"/>
          <a:stretch/>
        </p:blipFill>
        <p:spPr>
          <a:xfrm>
            <a:off x="5562720" y="4770360"/>
            <a:ext cx="1699920" cy="1157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1208160" cy="905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7"/>
          <a:stretch/>
        </p:blipFill>
        <p:spPr>
          <a:xfrm>
            <a:off x="5823000" y="1481040"/>
            <a:ext cx="1224000" cy="9446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6"/>
          <p:cNvSpPr/>
          <p:nvPr/>
        </p:nvSpPr>
        <p:spPr>
          <a:xfrm>
            <a:off x="571680" y="93600"/>
            <a:ext cx="8519760" cy="1498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nutrition ne peut à elle seule répondre aux défis du retard de croissance :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e réponse multisectorielle est nécessaire et cru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99880" y="2492280"/>
            <a:ext cx="5286600" cy="1470240"/>
          </a:xfrm>
          <a:prstGeom prst="rect">
            <a:avLst/>
          </a:prstGeom>
          <a:solidFill>
            <a:srgbClr val="afb782">
              <a:alpha val="8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b80a39"/>
                </a:solidFill>
                <a:latin typeface="Arial"/>
              </a:rPr>
              <a:t>Contex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99880" y="4100040"/>
            <a:ext cx="5286600" cy="900360"/>
          </a:xfrm>
          <a:prstGeom prst="rect">
            <a:avLst/>
          </a:prstGeom>
          <a:solidFill>
            <a:srgbClr val="c1afb8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f1332"/>
                </a:solidFill>
                <a:latin typeface="Arial"/>
                <a:ea typeface="Arial"/>
              </a:rPr>
              <a:t>La malnutrition au Burkina Fa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Quelques chiff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14240" y="157176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rès d’1 enfant sur 3 atteint de malnutrition chro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malnutrition est à l’origine de 45% des décès des enfants de moins de 5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50 % des cas de malnutrition sont associés à des infections; à des conditions d’hygiène insuffisantes ou à l’insalubrité de l’eau et à l’inexistence de l’assainiss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DB3F-B4EE-4988-A8E1-A7D7355897FA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ypes de mal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13880" y="1413000"/>
            <a:ext cx="7961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Arial"/>
                <a:ea typeface="Arial"/>
              </a:rPr>
              <a:t>Malnutrition par carences en micro-nutriment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(Fer, Iode, Zinc, Vitamine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Arial"/>
                <a:ea typeface="Arial"/>
              </a:rPr>
              <a:t>Malnutrition chronique (= retard de croissance)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rapport taille/â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 il est petit pour son âge 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éfenses immunitaires affai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Arial"/>
                <a:ea typeface="Arial"/>
              </a:rPr>
              <a:t>Malnutrition aigue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rapport poids/tail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 il est trop maigre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distingue MAM et MA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fort risque de mortal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FIg"/>
          <p:cNvPicPr/>
          <p:nvPr/>
        </p:nvPicPr>
        <p:blipFill>
          <a:blip r:embed="rId1"/>
          <a:stretch/>
        </p:blipFill>
        <p:spPr>
          <a:xfrm>
            <a:off x="7380360" y="2276640"/>
            <a:ext cx="1649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aux de pré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207-991C-4962-918D-EFD734ED47EF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Espace réservé du contenu 4" descr=""/>
          <p:cNvPicPr/>
          <p:nvPr/>
        </p:nvPicPr>
        <p:blipFill>
          <a:blip r:embed="rId1"/>
          <a:stretch/>
        </p:blipFill>
        <p:spPr>
          <a:xfrm>
            <a:off x="706320" y="1262160"/>
            <a:ext cx="84441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onséquences de la mal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13880" y="1699920"/>
            <a:ext cx="84121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mortalité infanto-juvé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e développement de l’enfant (intellectuel, cognitif et puberta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Une taille adulte plus pet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Risque de mourir de maladies infectieuses multiplié par 1,4 à 1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Grossesses et accouchements diffic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anté à l’âge adulte (HTA, diabète, cancers, obésit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9924-C940-4CA7-87F4-81367BDDAA54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99880" y="2387520"/>
            <a:ext cx="5286600" cy="1470240"/>
          </a:xfrm>
          <a:prstGeom prst="rect">
            <a:avLst/>
          </a:prstGeom>
          <a:solidFill>
            <a:srgbClr val="afb782">
              <a:alpha val="8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b80a39"/>
                </a:solidFill>
                <a:latin typeface="Arial"/>
              </a:rPr>
              <a:t>Lien entre EHA et Nutr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999880" y="4100040"/>
            <a:ext cx="5286600" cy="900360"/>
          </a:xfrm>
          <a:prstGeom prst="rect">
            <a:avLst/>
          </a:prstGeom>
          <a:solidFill>
            <a:srgbClr val="c1afb8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f1332"/>
                </a:solidFill>
                <a:latin typeface="Arial"/>
                <a:ea typeface="Arial"/>
              </a:rPr>
              <a:t>Quels ponts entre WASH in Nut 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8859-9C6F-4747-8147-033A1A370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acteurs déterminants de la mal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9CD5-1133-4375-9A12-771E05C2D043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e 4"/>
          <p:cNvGrpSpPr/>
          <p:nvPr/>
        </p:nvGrpSpPr>
        <p:grpSpPr>
          <a:xfrm>
            <a:off x="441360" y="1700280"/>
            <a:ext cx="8702640" cy="4716360"/>
            <a:chOff x="441360" y="1700280"/>
            <a:chExt cx="8702640" cy="4716360"/>
          </a:xfrm>
        </p:grpSpPr>
        <p:sp>
          <p:nvSpPr>
            <p:cNvPr id="320" name="Text Box 2"/>
            <p:cNvSpPr/>
            <p:nvPr/>
          </p:nvSpPr>
          <p:spPr>
            <a:xfrm>
              <a:off x="441360" y="4067640"/>
              <a:ext cx="2115720" cy="886680"/>
            </a:xfrm>
            <a:prstGeom prst="rect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Calibri"/>
                </a:rPr>
                <a:t>Causes sous-jac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Calibri"/>
                </a:rPr>
                <a:t>Niveau mé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297960" y="2919240"/>
              <a:ext cx="2039400" cy="623160"/>
            </a:xfrm>
            <a:prstGeom prst="rect">
              <a:avLst/>
            </a:prstGeom>
            <a:solidFill>
              <a:srgbClr val="ef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pports alimentaires insuffis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6393960" y="2918520"/>
              <a:ext cx="1687320" cy="624600"/>
            </a:xfrm>
            <a:prstGeom prst="rect">
              <a:avLst/>
            </a:prstGeom>
            <a:solidFill>
              <a:srgbClr val="ef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la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441360" y="2926800"/>
              <a:ext cx="2115720" cy="653760"/>
            </a:xfrm>
            <a:prstGeom prst="rect">
              <a:avLst/>
            </a:prstGeom>
            <a:solidFill>
              <a:srgbClr val="ef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Causes immédi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Niveau individ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441360" y="5505120"/>
              <a:ext cx="2115720" cy="911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Causes basiq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9"/>
            <p:cNvSpPr/>
            <p:nvPr/>
          </p:nvSpPr>
          <p:spPr>
            <a:xfrm>
              <a:off x="5619960" y="32310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6676200" y="3673080"/>
              <a:ext cx="2467800" cy="1601280"/>
            </a:xfrm>
            <a:prstGeom prst="ellipse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nvironnement insalubre et services de santé inadapt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26"/>
            <p:cNvCxnSpPr/>
            <p:nvPr/>
          </p:nvCxnSpPr>
          <p:spPr>
            <a:xfrm flipV="1">
              <a:off x="4844880" y="2674800"/>
              <a:ext cx="372600" cy="22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28" name="Straight Arrow Connector 27"/>
            <p:cNvCxnSpPr/>
            <p:nvPr/>
          </p:nvCxnSpPr>
          <p:spPr>
            <a:xfrm flipH="1" flipV="1">
              <a:off x="6675840" y="2605680"/>
              <a:ext cx="38520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29" name="Oval 7"/>
            <p:cNvSpPr/>
            <p:nvPr/>
          </p:nvSpPr>
          <p:spPr>
            <a:xfrm>
              <a:off x="4731480" y="1700280"/>
              <a:ext cx="2392920" cy="1077840"/>
            </a:xfrm>
            <a:prstGeom prst="ellipse">
              <a:avLst/>
            </a:prstGeom>
            <a:solidFill>
              <a:srgbClr val="b95b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lnutrition maternelle et infant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"/>
            <p:cNvSpPr/>
            <p:nvPr/>
          </p:nvSpPr>
          <p:spPr>
            <a:xfrm>
              <a:off x="2748600" y="5505120"/>
              <a:ext cx="6359040" cy="911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ssources humaines, économiques, organis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texte socio-culturel, économique, polit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"/>
            <p:cNvSpPr/>
            <p:nvPr/>
          </p:nvSpPr>
          <p:spPr>
            <a:xfrm>
              <a:off x="4694040" y="3673080"/>
              <a:ext cx="2467800" cy="1601280"/>
            </a:xfrm>
            <a:prstGeom prst="ellipse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atiques de soins maternelles et infantiles inadapté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2689560" y="3673080"/>
              <a:ext cx="2467800" cy="1601280"/>
            </a:xfrm>
            <a:prstGeom prst="ellipse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sécurité alimentaire (disponibilité, accè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 flipV="1">
              <a:off x="3124440" y="3459960"/>
              <a:ext cx="30708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 flipH="1" flipV="1">
              <a:off x="8128440" y="3459960"/>
              <a:ext cx="43236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 flipV="1">
              <a:off x="5928120" y="33814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8"/>
            <p:cNvSpPr/>
            <p:nvPr/>
          </p:nvSpPr>
          <p:spPr>
            <a:xfrm flipV="1">
              <a:off x="5928120" y="512820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V="1">
              <a:off x="7378560" y="5158440"/>
              <a:ext cx="24228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 flipH="1" flipV="1">
              <a:off x="4002120" y="5158440"/>
              <a:ext cx="19224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Flèche vers le bas 25" descr=""/>
          <p:cNvPicPr/>
          <p:nvPr/>
        </p:nvPicPr>
        <p:blipFill>
          <a:blip r:embed="rId1"/>
          <a:stretch/>
        </p:blipFill>
        <p:spPr>
          <a:xfrm>
            <a:off x="7077240" y="1731960"/>
            <a:ext cx="21636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Un cercle vici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4B38-2A21-49E5-8EF1-CBAB2433FCBD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Diagramme 4" descr=""/>
          <p:cNvPicPr/>
          <p:nvPr/>
        </p:nvPicPr>
        <p:blipFill>
          <a:blip r:embed="rId1"/>
          <a:stretch/>
        </p:blipFill>
        <p:spPr>
          <a:xfrm>
            <a:off x="1884240" y="1908000"/>
            <a:ext cx="60962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09:42:10Z</dcterms:created>
  <dc:creator>Marie-Christine Lebret</dc:creator>
  <dc:description/>
  <dc:language>en-US</dc:language>
  <cp:lastModifiedBy>ARP Stagiaire 2</cp:lastModifiedBy>
  <cp:lastPrinted>2016-03-29T12:51:51Z</cp:lastPrinted>
  <dcterms:modified xsi:type="dcterms:W3CDTF">2016-04-29T13:48:24Z</dcterms:modified>
  <cp:revision>24</cp:revision>
  <dc:subject/>
  <dc:title>Présentation PowerPoint</dc:title>
</cp:coreProperties>
</file>